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371-DA94-4FA7-A1BF-35D325B17A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74F3-6233-4C85-AD59-FB67965E2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BCA-F064-4D20-AA06-37F4F857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717-624D-4023-ABC1-FE8E9BF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C90-526B-46A8-99B7-782C4007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F97-2EFC-41BE-9698-E13420AF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851-9FE2-496F-A6AC-2B965562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B2A-410B-40EF-8C3B-2053397C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110-4CE0-4510-9E4B-60309F3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23B-601A-4E78-97FD-CB95F7B1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9C8-8C53-4CF9-93FC-C75DC23A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668-E44D-4D75-B8DD-C19C231C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CE9-C7D6-4710-BCAF-3CEE117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D56-790C-45C3-BF02-98C2DB8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4C83-06EB-4AB5-A5AE-C07B85986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23760"/>
            <a:ext cx="6651720" cy="166536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15"/>
          <p:cNvSpPr/>
          <p:nvPr/>
        </p:nvSpPr>
        <p:spPr>
          <a:xfrm>
            <a:off x="3714840" y="442908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олна 16"/>
          <p:cNvSpPr/>
          <p:nvPr/>
        </p:nvSpPr>
        <p:spPr>
          <a:xfrm>
            <a:off x="1143000" y="1571760"/>
            <a:ext cx="2428920" cy="1000080"/>
          </a:xfrm>
          <a:custGeom>
            <a:avLst/>
            <a:gdLst>
              <a:gd name="textAreaLeft" fmla="*/ 0 w 2428920"/>
              <a:gd name="textAreaRight" fmla="*/ 2429280 w 24289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 front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3"/>
          <p:cNvSpPr/>
          <p:nvPr/>
        </p:nvSpPr>
        <p:spPr>
          <a:xfrm>
            <a:off x="1285920" y="2714760"/>
            <a:ext cx="2500200" cy="1000080"/>
          </a:xfrm>
          <a:custGeom>
            <a:avLst/>
            <a:gdLst>
              <a:gd name="textAreaLeft" fmla="*/ 0 w 2500200"/>
              <a:gd name="textAreaRight" fmla="*/ 2500560 w 25002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1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олна 18"/>
          <p:cNvSpPr/>
          <p:nvPr/>
        </p:nvSpPr>
        <p:spPr>
          <a:xfrm>
            <a:off x="714240" y="42861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олна 19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20"/>
          <p:cNvSpPr/>
          <p:nvPr/>
        </p:nvSpPr>
        <p:spPr>
          <a:xfrm>
            <a:off x="571680" y="557208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олна 21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00040" y="57862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righ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le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олна 26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5143680" y="171468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midd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олна 28"/>
          <p:cNvSpPr/>
          <p:nvPr/>
        </p:nvSpPr>
        <p:spPr>
          <a:xfrm>
            <a:off x="4000680" y="5786280"/>
            <a:ext cx="1428480" cy="928800"/>
          </a:xfrm>
          <a:custGeom>
            <a:avLst/>
            <a:gdLst>
              <a:gd name="textAreaLeft" fmla="*/ 0 w 1428480"/>
              <a:gd name="textAreaRight" fmla="*/ 1428840 w 14284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4214880" y="5786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46400" y="5786280"/>
            <a:ext cx="76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…....…..the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basket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cat190.gif"/>
          <p:cNvPicPr/>
          <p:nvPr/>
        </p:nvPicPr>
        <p:blipFill>
          <a:blip r:embed="rId1"/>
          <a:stretch/>
        </p:blipFill>
        <p:spPr>
          <a:xfrm>
            <a:off x="2214720" y="771480"/>
            <a:ext cx="4857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Local Settings\Temporary Internet Files\Content.IE5\GEDWP2E8\MCj0432323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0" y="5929200"/>
            <a:ext cx="90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at is.…....……………………the stree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60400" y="428616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071800" y="2928960"/>
            <a:ext cx="48574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2868 L -0.00208 0.23867 E">
                                      <p:cBhvr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Documents and Settings\Admin\Рабочий стол\animated_thanks_44_thumb.gif"/>
          <p:cNvPicPr/>
          <p:nvPr/>
        </p:nvPicPr>
        <p:blipFill>
          <a:blip r:embed="rId1"/>
          <a:stretch/>
        </p:blipFill>
        <p:spPr>
          <a:xfrm>
            <a:off x="1785960" y="500040"/>
            <a:ext cx="5643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1643040" y="56437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.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786120" y="4071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000160" y="257184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857680" y="0"/>
            <a:ext cx="364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2535E-007 L 0.03524 0.2167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0" y="585792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4214880" y="2000160"/>
            <a:ext cx="3714840" cy="305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928880" y="1071720"/>
            <a:ext cx="340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9584E-006 L 0.01562 0.40912 E">
                                      <p:cBhvr>
                                        <p:cTn id="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714760" y="3000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31040" y="5857920"/>
            <a:ext cx="91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4929120" y="214200"/>
            <a:ext cx="3643560" cy="47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1071720" y="1571760"/>
            <a:ext cx="4255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505 L -0.00469 0.40125 E">
                                      <p:cBhvr>
                                        <p:cTn id="1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286080" y="32148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Admin\Local Settings\Temporary Internet Files\Content.IE5\3LK7GO01\MPj04244120000[1]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0" y="578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....…………..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643200" y="414324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86080" y="3000240"/>
            <a:ext cx="29289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705E-006 L -0.02968 0.22409 E">
                                      <p:cBhvr>
                                        <p:cTn id="2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Documents and Settings\Admin\Рабочий стол\cat50.gif"/>
          <p:cNvPicPr/>
          <p:nvPr/>
        </p:nvPicPr>
        <p:blipFill>
          <a:blip r:embed="rId1"/>
          <a:stretch/>
        </p:blipFill>
        <p:spPr>
          <a:xfrm>
            <a:off x="3571920" y="0"/>
            <a:ext cx="2500200" cy="336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357192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571840" y="3357720"/>
            <a:ext cx="3357360" cy="2761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8"/>
          <p:cNvSpPr/>
          <p:nvPr/>
        </p:nvSpPr>
        <p:spPr>
          <a:xfrm>
            <a:off x="673560" y="602784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00324 L -0.00833 0.34204 E">
                                      <p:cBhvr>
                                        <p:cTn id="3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857680" y="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73600" y="585792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428920" y="214308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3929040" y="314316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857160" y="6027840"/>
            <a:ext cx="869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…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143080" y="1357200"/>
            <a:ext cx="5313240" cy="437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786120" y="1000080"/>
            <a:ext cx="3672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2313 L -0.04618 0.40079 E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Admin\Рабочий стол\dog73.gif"/>
          <p:cNvPicPr/>
          <p:nvPr/>
        </p:nvPicPr>
        <p:blipFill>
          <a:blip r:embed="rId1"/>
          <a:stretch/>
        </p:blipFill>
        <p:spPr>
          <a:xfrm>
            <a:off x="4857840" y="2000160"/>
            <a:ext cx="373356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27400" y="585792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.the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000240" y="1357200"/>
            <a:ext cx="3235320" cy="425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Рабочий стол\dog78.gif"/>
          <p:cNvPicPr/>
          <p:nvPr/>
        </p:nvPicPr>
        <p:blipFill>
          <a:blip r:embed="rId3"/>
          <a:stretch/>
        </p:blipFill>
        <p:spPr>
          <a:xfrm>
            <a:off x="-142920" y="1143000"/>
            <a:ext cx="4065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8T07:56:05Z</dcterms:modified>
  <cp:revision>36</cp:revision>
  <dc:subject/>
  <dc:title>Слайд 1</dc:title>
</cp:coreProperties>
</file>